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highchime.wav" ContentType="audio/x-wav"/>
  <Override PartName="/ppt/media/jetflyby2.wav" ContentType="audio/x-wav"/>
  <Override PartName="/ppt/media/EXPLODE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7ED-DF38-40C5-BE5F-04FDC4F3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368-15BE-4839-A4B4-88A95F4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52D-5850-4B01-9237-FDC9622A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841-A7E3-4D3E-88D6-9DCCBA8B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B1C-533A-4483-A0DC-3542C836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D6F-5F8D-480B-825E-EBCA592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22B-2DDC-4BBB-9BBA-C561B18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9D3-A478-4B58-8AA6-0E531E9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CEB-4014-4D7E-B66E-C0C3BC4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D0B-7480-4903-9CB2-4665C39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7DF-5813-4F9F-B9A9-23CB2DB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DF1-0FD3-47E6-A612-4A0F8CE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1195-44DD-4741-B75D-ECB97C640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3600" y="2876400"/>
            <a:ext cx="1733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p:sp>
        <p:nvSpPr>
          <p:cNvPr id="45" name=""/>
          <p:cNvSpPr/>
          <p:nvPr/>
        </p:nvSpPr>
        <p:spPr>
          <a:xfrm>
            <a:off x="4888080" y="18432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 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84520" y="2940120"/>
            <a:ext cx="347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386320" y="4014720"/>
                <a:ext cx="83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121440" y="4008600"/>
                <a:ext cx="88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 3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1800" y="2940120"/>
            <a:ext cx="347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35080" y="4087800"/>
                <a:ext cx="83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70200" y="4081320"/>
                <a:ext cx="884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05320" y="2963880"/>
            <a:ext cx="1733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 7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14840" y="4067280"/>
                <a:ext cx="770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92800" y="4075200"/>
                <a:ext cx="770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 7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2960" y="2963880"/>
            <a:ext cx="17334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400" y="1836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  1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526000" y="4160880"/>
                <a:ext cx="782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15120" y="4154400"/>
                <a:ext cx="965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  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144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08240" y="4176720"/>
                <a:ext cx="826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84480" y="4172040"/>
                <a:ext cx="919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1400" y="1836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  9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526000" y="4160880"/>
                <a:ext cx="782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15120" y="4154400"/>
                <a:ext cx="965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935600" y="18144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.  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2520" y="30160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30200" y="4173480"/>
                <a:ext cx="828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87720" y="4167360"/>
                <a:ext cx="873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034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3, 6 – 4 #1 – 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eve of Eratosthe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8T11:57:35Z</dcterms:modified>
  <cp:revision>77</cp:revision>
  <dc:subject/>
  <dc:title>Slide 1</dc:title>
</cp:coreProperties>
</file>